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1EC9C-A9A0-4A69-9B98-750E1051D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4F36F-C3A6-4AA9-85E0-669711750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FBDD4-7F8E-4277-B80B-47D742264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102BE-1109-49B1-BF50-99718731F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F51E4-C2E7-4237-A7C5-7CD1C3B0A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FB98F-1E55-477E-8DF0-6088BE7A3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C9976-0404-4885-9B0A-D0FC0FAD8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204C4-9CD6-4F11-AED7-161E90DFA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41FA4-99DA-42D6-A9DB-956BFFDEB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CE8C4-3B41-4306-AC67-F11AAA476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2E7E9-480B-4DF1-8BA0-0DE75D251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1724F-CDFA-4F82-887B-6DFA70B26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46CF9-D235-4ECD-8F58-A83E826D6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AB0DD-73DD-4D40-99F2-F4E4FA040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7F16F-86E5-4B22-97DB-E811F6189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ECA59-237B-4501-8134-E857353C8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DC431-1645-4E04-80E0-C81CC0AC6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AC007-931B-4B24-A847-CD6C88B85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552C1-278B-411E-9C6A-07989D400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EF3D1-4907-4364-AB1C-653F1F35C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06AC8-9D59-45ED-99AD-35CC44B61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4AE94-96A8-4322-8BA7-15F9865BB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0D623-5F8F-49BB-8AB0-9502410B9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A16D3-5C26-4F65-8BCA-3D5AAB0A6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ADDB4-CCA7-458C-AA9A-C1CBDD8019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E970F-66DC-4FFD-A163-4D53B6DB09F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4</a:t>
            </a: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장 교사의 양성 및 </a:t>
            </a:r>
            <a:br>
              <a:rPr sz="5400"/>
            </a:b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자격과 임용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초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폐쇄 양성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국립 교육대학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국교원대학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화여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에 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,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 배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규모의 영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의 교육과정과 현장의 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체능교과 전담제 연계 부족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개방 양성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사범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3 +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8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일반대학 교육학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2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일반대학 교직과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입학정원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%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에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%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로 하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1998)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교육대학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에 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8,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 배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극심한 수급 불균형과 사범대학 정체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등교사양성 교육과정의 특수성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실습의 형식적 운영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유치원 교사 양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대학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9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+ 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제 대학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0 : 4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 학교 비율과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70 : 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 학생비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립의 비중이 높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과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제의 이원적 구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자격증 수여 기준의 일관성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등학교 교사의 유치원 교사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개선 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전문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경쟁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개방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자격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자격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는 대통령이 정하는 법에 의하여 교과부 장관이 검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요하는 자격증을 받은 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자격기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pp. 154-16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ffffb7"/>
                </a:solidFill>
                <a:latin typeface="굴림"/>
              </a:rPr>
              <a:t>교원자격제도의 주요 문제점과 개선방안</a:t>
            </a:r>
            <a:endParaRPr b="1" lang="en-US" sz="36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가수준의 질 통제장치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 양성기관간의 격차를 무시한 획일적 자격 수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정 운영의 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무시험 검증 및 절차의 미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간고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의 아동낙오방지법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직의 전문직관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권의 개념에 있어서 광의의 교권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각 문항 당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 임용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신규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사의 신규 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장과 원로교사의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간제 교사의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승진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경력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근무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연수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육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연구실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가산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임용 및 승진의 개선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다양한 임용기준에 의한 교원선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재 보완 시행 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습교사제의 도입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 연수 제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승진 체계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화 및 평교사 자격의 다단계화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관리와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석교사제의 도입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승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화와 최고의 전문직 자격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 특수교육의 어제와 오늘 조망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불모지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주인이 있는 땅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주인의 역할은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산점 폐지와 미래의 전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바람직한 특수교사의 역할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우리의 각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7" name="Rectangle 15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기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범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종합교원양성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양성대학의 설립 목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확고한 가치관과 건전한 교직윤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의 이념과 그 구체적 실천방안 체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질과 역량을 생애에 걸쳐 스스로 신장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기관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임시교원양성기관 설치 또는 인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규 교원양성기관에서 양성이 어려운 과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시적으로 양성이 필요한 과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수급상 단기간 양성이 필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등교육의 복수자격 취득 기회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5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서울맹아학교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제 고등학교 사범계에서 특수교사 최초 양성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대학 수준 최초의 특수교사 양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96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한국사회사업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 대구대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7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단국대학교와 이화여자대학교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강남사회복지대학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전주우석대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국립대학교로는 최초로 공주사범대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8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현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다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8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년 특수교사 양성 현황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3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정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,56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대학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7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4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원 총정원으로 인가되어 있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8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년 현재 특수교사 양성 현황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6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356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86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742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7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39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,14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80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자격증 제도의 변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 전후의 자격증 변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마다 편차가 심하고 교수 편의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 교육과정의 표층적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학생 요구에 맞는 교과 지원 미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약화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교사 폐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심화교육과정 운영의 한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 재교육 심화교육과정 운영 필요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래지향적 반성과 설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구조의 이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내와 전문성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절제의 미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굴레의 사슬과 단절 시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상위학위 취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9T01:00:07Z</dcterms:created>
  <dc:creator>XPuser</dc:creator>
  <dc:description/>
  <dc:language>en-US</dc:language>
  <cp:lastModifiedBy>XPuser</cp:lastModifiedBy>
  <dcterms:modified xsi:type="dcterms:W3CDTF">2008-10-30T00:07:58Z</dcterms:modified>
  <cp:revision>15</cp:revision>
  <dc:subject/>
  <dc:title>제 4장 </dc:title>
</cp:coreProperties>
</file>